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51D6-B6EE-4E39-98A6-6B1CF4090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C238-7E40-4322-964B-6828F8411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46D0-6668-46E0-88FD-ECE6898FA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A5C7-7730-4621-99B9-5976FA00F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322D1-C254-45CE-85B8-7CE5EC7AB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2633E-49B4-4F4F-9614-7ACEB8DBD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DF95A-8C6B-4766-8C49-188C8050C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24423-BF14-4380-8B50-95AFA5A7E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6DF68-E4A2-4F85-A4F9-2B15FBB50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20C51-920A-4461-A8E2-87FA34FC2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1EC76-2245-483D-ADB4-B112C0E4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073B-AA17-4991-BAC6-D9D3ABE83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D2F54-9348-473C-ACE3-500A4BAC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B7912-7025-40A7-A94D-ECC2405C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C66BB-A3ED-4CD6-846B-450544D0D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A84CD-3741-4519-848E-ECD9FC3BE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E9115-8379-4247-B78F-694139534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87550-3139-4731-A055-B630BF32C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490C3-8953-4254-AD92-97C41026F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0EBC8-0AA7-4AFE-A047-E2C9A37D4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6B078-EE1F-4392-8EA7-E2A1ACD71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9FBA5-93C0-45DF-BC63-531DAB023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89F9-320A-4684-908F-DBC2D7F55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3A426-C25B-4E84-8DD0-C41853324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D207D-7BA5-480F-8F33-1BEA26D3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46F4C-C597-4ABF-96E4-1F5D977EA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BCAD4-DDAB-4113-A4C8-D0F7296E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F49C5-D05C-42C4-AD72-54E155E79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6D21A-FE1B-426D-B19D-655954576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289FC-55B7-404A-A055-3C85572E5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35154-2BE8-4C53-AF3D-A04371CEC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45866-8418-42E8-991B-02B84F52F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CEF28-9CF1-45EE-A4E7-315AAD297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5A56-A7AD-4F2A-80C2-2DD33142E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CFA84-89E8-4790-A829-425912D05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85B86-7191-4F31-ACB8-E0C79EF2E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2740F-3C78-473B-9500-0EE84BCA2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DBB8A-445C-4DFB-9858-F100CB31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FEAD1-2F04-40FD-A87A-76144807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12F39-61D4-4E19-A2CF-6E4CBC20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069FE-2115-4B0B-9CD5-63A1B0747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01FB5-764E-428D-9841-52A9F1C74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34233-62E9-4FC0-B9E3-70A9692F3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69C0A-7B70-4232-B00F-31715F2B7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EB15-F2E6-44B4-AC66-0400CC2DB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AF86E-E436-4EB5-AB42-A7F344453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36BBD-3CCE-4079-946B-1F80D3F0E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C6553-AF11-4374-9D6C-641F4ADA3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0A442-622C-4EB6-8EB0-85E365A91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ED606-A72C-47A0-8DDD-EE9159606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C6E15-0381-4F31-A512-A30680F2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C34FF-3EF6-44FB-BB33-6C407FAA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2CAA4-A723-4AC5-AB65-2B02D063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9792E-936A-4E90-BB2F-CF31A069A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E872A-3981-49E8-BECA-C1983BB03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14D6-8FDE-4E64-A8B1-05FA8A233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515D8-7948-4A11-AA7D-C21B7412F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34F5-4FA7-47DC-A43C-34AFBAC9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75B7-C38A-42AA-B3A3-3931607D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2FC3-B62F-4FEE-8ACB-6BE9DEF7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782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7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8736E-43D5-40DF-8091-AF07FB5C18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782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7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9AEEC-4905-416F-B65B-4B55F61422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2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2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9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E465-EC1B-4A75-B4BD-6A371309871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6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7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8A9B7-2C7F-48A7-9A66-9A4A8EF643E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5D177-4E95-48DD-A39F-F36C1A4300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pbs.org/wgbh/nova/methuselah/phot_flash.html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Photosynthesis and Cellular Respiration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838080" y="201600"/>
            <a:ext cx="73152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304920" y="212760"/>
            <a:ext cx="8458200" cy="64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vin Cycle (light independent or “dark” reaction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P and NADPH generated in light reactions used to fuel the reactions which take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break it apart, then reassemble the carbons into gluco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bon fix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taking carbon from an inorganic molecule (atmospheric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nd making an organic molecule out of it (gluc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plified version of how carbon and energy enter the food ch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838080" y="196920"/>
            <a:ext cx="7467840" cy="64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rvesting Chemical Ener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we see how energy enters food chains (via autotrophs) we can look at how organisms use that energy to fuel their bod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ts and animals both use products of photosynthesis (glucose) for metabolic fu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terotroph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must take in energy from outside sources, cannot make their own e.g.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e take in glucose (or other carbs), proteins, and fats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se foods don’t come to us the way our cells can use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>
            <a:hlinkClick r:id="rId1"/>
          </p:cNvPr>
          <p:cNvPicPr/>
          <p:nvPr/>
        </p:nvPicPr>
        <p:blipFill>
          <a:blip r:embed="rId2"/>
          <a:srcRect l="16405" t="21878" r="29687" b="17709"/>
          <a:stretch/>
        </p:blipFill>
        <p:spPr>
          <a:xfrm>
            <a:off x="1104840" y="514440"/>
            <a:ext cx="7277040" cy="61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ellular Respiration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ormation of chemical energy in food into chemical energy cells can use: 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reactions proceed the same way in plants and animals.  Process is call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llular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all Rea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6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→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+ 6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ellular Respiration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kdown of glucose begins in the cytoplasm:  the liquid matrix inside th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is point life diverges into two forms and two path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erobic cellular respiration (aka ferment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erobic cellular 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R. Rea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lyco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es of reactions which break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-carbon gluco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lecule down in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3-carbon molecules called pyru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is an ancient one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organisms from simple bacteria to humans perform it the same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ields 2 AT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lecules for every one glucose molecule broken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ields 2 NAD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 glucose molec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8915400" cy="56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IG IDE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Must recognize!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two organelles responsible for energy </a:t>
            </a:r>
            <a:r>
              <a:rPr b="1" i="1" lang="en-US" sz="2800" spc="-1" strike="noStrike" u="sng">
                <a:solidFill>
                  <a:srgbClr val="336600"/>
                </a:solidFill>
                <a:uFillTx/>
                <a:latin typeface="Arial"/>
              </a:rPr>
              <a:t>transformation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ergy is made available through chemical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ither organelle truly produces energ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rgy is neither created or destro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reproduce independ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their own set of 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aerobic Cellular Respir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rganisms thrive in environments with little or no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shes, bogs, gut of animals, sewage treatment po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oxygen used= ‘an’aerob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s in no more AT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final steps in these pathways serve ONLY to regenerate NAD+ so it can return to pick up more electrons and hydrogens in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products such as ethanol and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ingle cell fungi (yeast) in beer/bread)  or  lactic acid (muscle cel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1143000" y="307800"/>
            <a:ext cx="6781680" cy="61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erobic Cellular Respiration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xygen required=aerob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more sets of reactions which occur in a specialized structure within the cell called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 Kreb’s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 Electron Transport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reb’s Cyc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letes the breakdown of gluc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s the pyruvate (3-carbons) and breaks it down, the carbon and oxygen atoms end up in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drogens and electrons are stripped and loaded onto NA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FAD to produce NADH and FADH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duction of only 2 more AT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ut loads up the coenzymes with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electrons which move to the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152280" y="627120"/>
            <a:ext cx="8763120" cy="55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lectron Transport Cha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 carriers loaded with electrons and protons from the Kreb’s cycle move to this chain-like a series of steps (staircas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electrons drop down stairs, energy released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m a total of 32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xygen waits at bottom of staircase, picks up electrons and protons and in doing so becomes water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152280" y="627120"/>
            <a:ext cx="8763120" cy="55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ergy Tall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6 ATP for aerobic vs. 2 ATP for anaerob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ycolysis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eb’s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 Transp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2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6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erobic organisms can’t be too energetic but are important for global recycling of carb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88390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1733400" y="228600"/>
            <a:ext cx="56754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  Photo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 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 Re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.  Cellular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 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 Re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nthesis &amp; Respi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385920" y="1328760"/>
            <a:ext cx="83437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 of converting sun energy into chemical energy usable by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troph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self feeders, organisms capable of making their own f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otoautotroph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use sun energy e.g. plants photosynthesis-makes organic compounds (glucose) from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oautotroph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use chemical energy e.g. bacteria that use sulfide or methane   chemosynthesis-makes organic compounds from chemical energy contained in sulfide or meth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otosynthe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akes place in specialized structures inside plant cells call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loropla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ght absorbing pigment molecules e.g. chlorophy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all Rea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12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+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 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6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+ 6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+ 6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rbohydrate made is gluc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ater appears on both sides because 12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 molecules are required and 6 new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 molecules are m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ater is split as a source of electrons from hydrogen atoms releasing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s a by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ectrons increase potential energy when moved from water to sugar therefore energy is requir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ght-dependent Rea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vie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light energy is absorbed by chlorophyll molecules-this light energy excites electrons and boosts them to higher energy levels.  They are trapped by electron acceptor molecules that are poised at the start of a neighboring transport system.  The electrons “fall” to a lower energy state, releasing energy that is harnessed to make AT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ergy Shuttl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cellular energy-nucleotide based molecule with 3 phosphate groups bonded to it, when removing the third phosphate group, lots of energy liberated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erb molecule for shuttling energy around within cel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ther energy shuttles-coenzymes (nucleotide based molecules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move electrons and protons around within th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DP+, NADPH        NAD+, NADP      FAD, FAD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ght-dependent Rea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otosyst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light capturing unit, contains chlorophyll, the light capturing pig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ron transport syst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sequence of electron carrier molecules that shuttle electrons, energy released to make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s in chlorophyll must be replaced so that cycle may continue-these electrons come from water molecules, Oxygen is liberated from the light re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ght reactions yield ATP and NADPH used to fuel the reactions of the Calvin cycle (light independent or dark reac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1T02:09:49Z</dcterms:created>
  <dc:creator>OEM</dc:creator>
  <dc:description/>
  <dc:language>en-US</dc:language>
  <cp:lastModifiedBy>joconnor</cp:lastModifiedBy>
  <dcterms:modified xsi:type="dcterms:W3CDTF">2010-10-28T15:36:47Z</dcterms:modified>
  <cp:revision>20</cp:revision>
  <dc:subject/>
  <dc:title>Photosynthesis and Cellular Respiration</dc:title>
</cp:coreProperties>
</file>